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FAC-5C39-41BA-9BE7-CEE177A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D0B-4658-4F7C-8C53-BFB40D5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9F0-CDBB-469A-9302-3C085B64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489-0AEE-4044-8E3C-19516C97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1B1-0920-4FFC-87E4-5FDB048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184-DC43-4ED0-A8BC-2FCAA2B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368-F768-4323-A08B-8AB10AB5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5BB-5A4A-4284-83E0-03E7C66B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F68-4FAA-498B-BC3E-3ECA8FB9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923-2B9C-4D00-B5E0-EFB3EB2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443-445E-41BB-BD2A-AD291AA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3A5-9939-4769-A365-2A4A9E3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2D4-6227-4798-8E53-690488308B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A44-6CD2-4BA7-A980-BB82520CF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4.xml"/><Relationship Id="rId19" Type="http://schemas.openxmlformats.org/officeDocument/2006/relationships/slide" Target="slide44.xml"/><Relationship Id="rId20" Type="http://schemas.openxmlformats.org/officeDocument/2006/relationships/slide" Target="slide48.xml"/><Relationship Id="rId21" Type="http://schemas.openxmlformats.org/officeDocument/2006/relationships/slide" Target="slide50.xml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Stat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id,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 form of matter that has no shape or volume of its ow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a gas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5880" y="4381560"/>
            <a:ext cx="3048120" cy="24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Times New Roman"/>
              </a:rPr>
              <a:t>School desk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hat is an example of a solid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Juice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54304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an example of a liqui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33680" cy="3468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an example of a ga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Times New Roman"/>
              </a:rPr>
              <a:t>Ice Cube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hat is the solid form of water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ything that takes up space and has ma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water as a gas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e distance between two poi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What is length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w much space matter takes 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volume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The amount of matter in an objec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00"/>
                </a:solidFill>
                <a:latin typeface="Times New Roman"/>
              </a:rPr>
              <a:t>What is mass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nits of measurement used to measure length in the metric syste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are centimeters, meters, or millimete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What is matter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it of measurement used to measure volume in the metric syste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the lit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wo or more kinds of matter that are put toget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y change in the size, shape, or form of mat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a physical chang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ny change in matter that produces a new kind of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chemical chang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cientific word meaning to gu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a hypothesi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Tiny pieces that make up all matte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items needed to perform an experi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are the material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harpening your penci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xample of a physical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ce melting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n example of a physical chang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 bicycle rust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n example of a harmful chemical chang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sing oil to make plastic spo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xample of a chemical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Times New Roman"/>
              </a:rPr>
              <a:t>What are particles?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ouring juice from a round container into a square contain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xample of a physical chang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 form of matter that has its own shape and volu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a solid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A form of matter that has its own volume but does not have a shape of its ow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Times New Roman"/>
              </a:rPr>
              <a:t>What is a liquid?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NYCDOE</cp:lastModifiedBy>
  <dcterms:modified xsi:type="dcterms:W3CDTF">2010-03-09T20:40:27Z</dcterms:modified>
  <cp:revision>32</cp:revision>
  <dc:subject/>
  <dc:title>Blank Jeopardy</dc:title>
</cp:coreProperties>
</file>